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C3D-D55D-4AAD-A87D-32B6F91A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912-3277-47D7-BCCE-E6A74B26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7D5-9FC1-4377-A778-50D28B39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51E-E0D7-4E4D-A593-7F8FBC45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394-0FEF-40F0-9660-8CC87BA1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22D-8507-4E98-A0D2-E28AC92D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457-D51E-43A0-9937-EF6B3F0E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0B9-326F-455A-AD0C-A45E5584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D7E-3295-446D-B0C1-E8A927DF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86D5-3F45-41F0-A197-9B38198C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07D-311B-40AA-B4D7-B3CC8008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597-BFE9-417E-B745-78EF1DB2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1F78-02AB-4583-A2FB-92EE9F1F1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tion  to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ming Concep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se Ov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is very pick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sen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s Temp, temp, TEMP all diffe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changing one character &amp; recomp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ce error message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ment a w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matting C Progra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t braces on separate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nt after each open brace: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ent on each close brace: 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ces should line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blank lines to group s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comments 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ent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-line com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tmp=current; /*copy curr. val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com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* this is a block com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sual Bas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line is a stat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case sen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words form groups, not deli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s or Objects on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tons, text boxes, option boxe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ts &amp; Event Hand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, MouseOver, Change, Get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Visual Basic Pr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lo,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ommand But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ode to Command1_C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sgbox “Thanks, that felt great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isn’t Pick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doesn’t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should indent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add lots of com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er to get the “Big Picture” with V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easier to do certain things in V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and V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d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 controls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se Sens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ment Delimi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ly Br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i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ole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be graph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tions for Ev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se Insens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ments on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re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phical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be non-vis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++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set of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use C++ Compiler for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Orie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al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soft Windows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er to learn than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on C,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Orie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ier than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ole or Vis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Script &amp; VB 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preted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with Web P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ent &amp; Server S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rse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Int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Arithme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Dec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Loop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 Arr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 Review, Q&amp;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 F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Book/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glomerate of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ole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t and Sc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, Practice,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y it as outl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code seg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y to change it yourse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ilable on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&amp; V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u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Speed Idi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do m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e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ew Other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Understand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n't Mad at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Out to Get Y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gnore Thre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aling With Compu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year old with a calcu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very spec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assume any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give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It Isn't Eas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Differ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in a new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Unforgi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oom for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o think of all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ser will always surprise y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 Exactly What You Tell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uter Pr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rce file (tex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ad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iler creates Object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hine read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er creates Execu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form 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program controls the 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pr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odes &amp; Exec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program is not in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Langu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make more sense as you learn mo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ments end in Semicol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aces group statements into bl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e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lose condition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up expres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Quotes for single charac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uble Quotes for character str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C Pr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#include &lt;stdio.h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Hello, world!\n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2:51:43Z</dcterms:created>
  <dc:creator>Bill Pringle</dc:creator>
  <dc:description/>
  <dc:language>en-US</dc:language>
  <cp:lastModifiedBy>Bill Pringle</cp:lastModifiedBy>
  <dcterms:modified xsi:type="dcterms:W3CDTF">2000-09-04T21:57:11Z</dcterms:modified>
  <cp:revision>8</cp:revision>
  <dc:subject/>
  <dc:title>Introduction  to  Programming Concepts</dc:title>
</cp:coreProperties>
</file>