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BBDF-37F4-4990-9909-DFDDD5C41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8EDC-BF93-4F16-83AD-F6736290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2850-7362-44D3-8905-A02ED8DAC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F839-FB35-42D4-A577-D22E972C6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05E2-EE81-4F15-8968-1F12C7CB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CF58-7942-407E-B21E-7E442668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2AB3-592E-42DB-BCA0-D97304A6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622E-CD08-4293-AC49-5BA4A218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8E23-ADD4-4BF9-9578-0F54DABC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DB43-3D47-46F9-A57B-2DB65599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827B-606F-4E72-8420-BA2D6F31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C439-A985-4162-B5D0-09DC6C9D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F88A-2D78-48A6-B5AB-B4F946B700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ndamentals of Programm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6: Arr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unt.c: Count Match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fnd = 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for (i=0; i &lt; MAXENT; i+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f (tbl[i] == key) fnd++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printf("Found %d times\n", fnd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st.c: List Match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for (i=0; i &lt; MAXENT; i+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f (tbl[i] != key) continu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list[fnd] = 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fnd++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printf("Found %d times\n", fnd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for (i=0; i &lt; fnd; i++) printf("Loc=%d\n", list[i]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ncy Li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for (i=0; i &lt; MAXENT; i+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f (tbl[i]==key) list[fnd++]=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printf("Found %d times\n", fnd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for (i=0; i &lt; fnd; i+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rintf("Loc=%d\n", list[i]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B Program: Se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 List Box for num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 Text Box for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 List Box for Search Re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 Option Box for type of 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First, Last, Count, and 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 Command Button for Fi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on List enters value in Text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on Search Results Selects List en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king End of Ta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ray contains max. e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times store less than m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"marker" to end of 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t illegal va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 search up to end of 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for (i=0;i&lt;MAXENT&amp;&amp;tbl[i]&gt;0;i+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ll use MAXENT if pos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rt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commercial pack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do small sorts yoursel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smallest to t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largest to bott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bble S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ve Smallest to T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 at top el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ine rest of 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find a smaller entry, swap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done, the smallest is at the t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inue with next c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t bottom of table, you are d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mall.c: Move Smallest to T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lvl="1" marL="594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for (i=0; i &lt; MAXENT-1; i+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for (j=i+1; j &lt; MAXENT; j+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280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if (tbl[i] &gt; tbl[j]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280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45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mp = tbl[i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45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bl[i] = tbl[j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45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bl[j] = t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280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ve Smallest to Botto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 at last 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ine rest of 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find any smaller, swap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 to next (previous) 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you reach the top, you are d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g.c: Move Smallest to Botto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lvl="1" marL="594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for (i=MAXENT-1; i &gt; 0; i--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for (j=0; j&lt;i; j+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280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if (tbl[j] &lt; tbl[i]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280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45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mp = tbl[i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45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bl[i] = tbl[j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45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bl[j] = t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280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rray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have been using character arrays in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r buf[BUFSIZ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eric Arrays are simi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 tbl[100]; /* tbl[0] - tbl[99] *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oat amt[50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element is the same (primitive)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bl[4] = 42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mt[6] = 3.15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topic will be hard to fol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ubble S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ok at adjacent enti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y are out of order, swap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first pass, largest at bott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no swaps are made, you are d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ubble.c: Bubble S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fo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i=MAXENT-1; i &gt; 0; i--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{ didswap = 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for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j=0; j &lt; i; j+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{ if (tbl[j] &gt; tbl[j+1]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{ didswap = 1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tmp = tbl[j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tbl[j] = tbl[j+1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tbl[j+1] = tmp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} if (didswap == 0) break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ther Sorting Metho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Systems have better sor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ick-Sort is comm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nary 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umes table is so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stest 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B Sorted Attribu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stBox has Sorted Attrib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at Compile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st entries are inserted in 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B Program ListS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 Sorted property to Tr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TextBoxes for NumEnts &amp; MaxN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Command Button for St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ad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element contains random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emData contains insert 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ing List displays loc &amp; inse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itializing Array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C, you can initialize array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nt vals[5] = {10,20,30,40,50}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nt tbl[] = {1,4,9,25,36,42}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nt amt[25]; /* undefined vals *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B doesn't support initialized arr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Form_Load &amp; Form_Activate tr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stBox and ComboBox use arr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Program Array.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#define MAXENT 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nt tbl[MAXENT]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for (i=0; i &lt; MAXENT; i+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bl[i] = rand() % 10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ld loop to sizeof(tbl)/sizeof(tbl[0]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cont'd next slid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rray.c: Display Ta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for (i=0; i &lt; MAXENT; i+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rintf("tbl[%d]=%d\n", i, tbl[i]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f ((i%25)==24) 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ntf("Press ENTER to continue: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tchar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}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the if statem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eriment: take it  out, change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B Program: Arr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ListBox to store inf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Text Boxes for ID and 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Command Button to Add 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Command Button to Update 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Command Button to Delete 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on list to display 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 you can update or delete current 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arching Tab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 at on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ok at each entry for match (ke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 Res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 first m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 last (latest) m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t matc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matc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rst.c: Find First Mat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for (i=0; i &lt; MAXENT; i+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f (tbl[i] == key) break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f (i &lt; MAXENT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rintf("In loc %d\n", i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lse printf("Not found\n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st.c: Find Last Mat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fnd = -1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for (i=0; i &lt; MAXENT; i+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f (tbl[i] == key) fnd = 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f (fnd &gt; 0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rintf("Loc=%d\n", fn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lse printf("Not found\n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4T18:33:16Z</dcterms:created>
  <dc:creator>Bill Pringle</dc:creator>
  <dc:description/>
  <dc:language>en-US</dc:language>
  <cp:lastModifiedBy>Bill Pringle</cp:lastModifiedBy>
  <dcterms:modified xsi:type="dcterms:W3CDTF">2000-09-04T22:39:17Z</dcterms:modified>
  <cp:revision>15</cp:revision>
  <dc:subject/>
  <dc:title>Fundamentals of Programming</dc:title>
</cp:coreProperties>
</file>