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963-7102-4019-881F-6CDCA1AE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ADD-55CA-4902-A87D-D58773DA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47C-B5B3-4D27-A4D1-447C5AFE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1DB-304B-4B7F-81A6-C1A866D2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E7F-21D6-48C3-BB60-04808D83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592-13CC-4EF8-91CC-C36D41FA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909-BC47-47B7-9EFD-352E28D9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2A3-BA90-40AA-A93C-41370F28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D35-8699-4786-A7D4-3CFF6F7D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3A1-1B6B-4E0C-AB7F-E2F227D7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1FB-5A5B-46A0-9856-282DB123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27B-1BFE-4532-B5ED-3FC1A9D5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8A33-BF60-4F58-B5CA-321F41275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2: Intro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Add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int main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a=4, b=6,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 = a + 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%d+%d is %d\n",a,b,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tting Numbers from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declaration se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nu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need a numb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whole number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um = atoi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GetInt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t nu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Enter a number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=atoi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You entered %d\n", nu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verting Strings to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sca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(gets) character string, then con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i(str) -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l(str) - long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f(str) - d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AddNums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program to input two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one number, then get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them num1 and nu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&amp;  display the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first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second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12+4 is 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AddNu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wo text boxes for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xtNum1, txtNu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xt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button to do ad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dA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tf Format: Advanc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[-]w.p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 left justi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- 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columns for entire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- pr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y with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 - length ind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letter ‘l’ if data i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- format (%d, %f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tf Format: Precision (Advance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at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positions to right of deci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7.2f (width 7, 2 decimal pla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Add4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Four Numbers from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Numbers ent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Number Line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5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: Print the total of th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ListNu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List Box for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stNu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Text Boxes for Input &amp; Tot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xtNum, txt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Command Button for A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mdAd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button pu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to 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to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tNums.additem txtNum.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change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, 42.5, BUFSI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change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, total, a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Characters &amp; Character St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 charac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ch = 'a'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*str = "Hello, World!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Single Charac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character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0 to 2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lose is single quotes: 'a'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pecify binary val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zero = '\0'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ten = '\012'; /* octal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life = 4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fox = 0xff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Character St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of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s in binary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lose in double qu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*msg1 = "This is a test"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Character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xed (maximum)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buf[BUFSIZ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tring ends with binary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abc" contains a, b, c, '\0'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arrays can have extra r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msg[80] = "abc"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msg[4] thru msg[79] are 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C Character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with 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(bu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 key gets changed to binary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't use in assignment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trcpy(buf, "Hello, world!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is a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f[0], buf[1], ... , buf[n-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'n' is the size of the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ing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ring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strcpy(buf, msg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msg to b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strcat(buf, msg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nds msg2 to b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len = strlen(buf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s length of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racting with Users: GetS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buf[200]; /* input buffer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something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 /*get input from user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You entered: &gt;&gt;%s&lt;&lt;\n", 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The first character: %c\n", buf[0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String Op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t(str, l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(str, l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(str, start, l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(str, sta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gth = len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oking at Characters in St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positions start with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char *msg = "ABC"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printf("%c%c%c\n", msg[2], msg[0], msg[1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GetSt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string an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, Mid, Right Arg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button pressed, process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Length of Input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 Left, Mid, and Right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results in appropriate text bo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, 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at, d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, char[100], *ch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ating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er, 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, D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 Decimal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GetInfo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fname[20], lname[20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ag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first name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trcpy(fname, 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last name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trcpy(lname, 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GetInfo.c (cont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printf("Enter age: 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age = atoi(buf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printf("%s %s, age %d\n", fname, lname, age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n't Use Scan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text books teach you about sca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hard to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to cause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it like the pla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program scanf.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use it, just rememb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I told you so!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GetInf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Text Bo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 But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 Text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Last, age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orary Storage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decla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ing con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with a l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ers or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 and _ count as 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signment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a=1, b=2, 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= a + 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will b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Alge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a +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will b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s stored in v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m a, b,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= a +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= a +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intf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tf(format_string [, data_inserts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\n - new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sitions data inserts of typ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tf(“Hi cutie!\n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tf(“Total is %d\n”, to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tf Escape Sequ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\n - new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\t - inserts a tab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tf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inse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s - character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d -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i - integer (altern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f - floating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c - single charac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Dis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text  boxes &amp; lab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 properties or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text for Text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caption for Lab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lStat.caption = “Enter data, then press OK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-Up Message Bo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gbox “Messa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1T00:37:51Z</dcterms:created>
  <dc:creator>Bill Pringle</dc:creator>
  <dc:description/>
  <dc:language>en-US</dc:language>
  <cp:lastModifiedBy>Bill Pringle</cp:lastModifiedBy>
  <dcterms:modified xsi:type="dcterms:W3CDTF">2000-09-04T22:18:36Z</dcterms:modified>
  <cp:revision>21</cp:revision>
  <dc:subject/>
  <dc:title>Data</dc:title>
</cp:coreProperties>
</file>