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damentals of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7: Structures a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playing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(i=0; Cust[i].id &gt; 0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f("Cust # %d is %s %s\n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.id, cust.fname, cust.l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 ID of 0 (or neg) indicates end of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rays of Structures in V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array of CUS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ext Boxes for ID, Lname, F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ListBox for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Buttons for Add, Update, and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List to Display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pdate, delete from index &amp; add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le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between program and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*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ening/Closing a File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p = fopen("myfile.txt", "r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p = fopen("newfile.txt", "w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open fails, fp will be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fp =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f("Open failed!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 value of fp doesn'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ess it is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forming I/O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and writ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format &amp; external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typing from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displaying on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't see with text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ext I/O for thi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xt Output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printf(fp, "Hello, world!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printf(fp, "%d + %d = %d\n", num1, num2, num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xt Input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gets(buf, sizeof(buf), 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 not trans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zero after end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of Lin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: CR-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: 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p End of Line Sequence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end of line character (CR or L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EOL char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gets(buf, sizeof(buf), 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(i=0; buf[i]!='\n'&amp;&amp; buf[i]!='\r'; i++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buf[i] = '\0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e program save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xt File I/O in V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"path" for input 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Input #1, 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#1, 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nary I/O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write(cust,sizeof(cust),1,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write(Cust,sizeof(cust),MAXCUST, 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read(cust,sizeof(cust),1,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read(Cust,sizeof(cust),MAXCUST, 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I/O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 Information in on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ndom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ong lo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oc = ftell(fp); /* curr loc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seek(fp, offset, whenc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- distance from wh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_SET - beg of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_CUR - curre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_END - end of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ving Around in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oc = ftell(fp); /* save loc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/* read stuff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read(buf,BUFSIZ,1,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/* repositio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seek(fp,loc,SEEK_SE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t up bookmarks (index) into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 for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cus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lname[NAMELEN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fname[NAMELEN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b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cust Cust[MAXCUST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dex for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ndx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long lo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ndx Keys[MAXCUST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ID in Keys[i].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location in file in 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 Keys for match of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 to loc 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dex.c: Store ID in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(i=0; i &lt; MAXCUST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{ /* build index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eys[i].id = Cust[i].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eys[i].loc = ftell(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write(Cust+i,sizeof(cust),1,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arch on 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(i=0; i &lt; MAXCUST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Cust[i].id == wa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{ /* found record - read it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seek(fp, Keys[i].loc, SEEK_SE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read(cust, sizeof(cust), 1, 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location of record 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out new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seek(fp, keys[curr].loc, SEEK_SE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write(cust, sizeof(cust), 1, 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ng and Decl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stored i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e Instance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data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efine before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ng Structure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c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lname[2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fname[2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b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claring &amp; Using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cust curr_cu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urr_cust.id = 4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cpy(curr_cust.lname, buf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cust Cust[MAXCUST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[i].id = 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cpy(Cust[i].lname, buf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Structures in V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4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 C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D as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Lname as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name as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im CurrCust as C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urrCust.id = 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urrCust.Lname = "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urrCust.Fname = "Josep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lizing Structur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when decl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cust curr_cust =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2, "Mick", "Jagger"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 with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cust Cust[] =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42, "Mick", "Jagger" 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36, "Joan", "Osborn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-1, NULL, NULL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doesn't support initializing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tInfo.c: Get Info From U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f("Enter ID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s(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urr_cust.id = atoi(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f("Enter Last Name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s(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cpy(curr_cust.lname, 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f("Enter First Name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s(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cpy(curr_cust.fname, 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ck 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f("Enter Last Name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s(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strlen(buf) &lt; 25) strcpy(cust.lname, 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 while (strlen(buf)&gt;=2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Pringle</dc:creator>
  <dc:description/>
  <dc:language>en-US</dc:language>
  <cp:lastModifiedBy>Bill Pringle</cp:lastModifiedBy>
  <cp:revision>0</cp:revision>
  <dc:subject/>
  <dc:title>Fundaments of Programming</dc:title>
</cp:coreProperties>
</file>