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3BE-AEBE-455D-AA50-DB5A77C3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7E1-0956-4A13-B07D-3E8F2604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E09-9A2C-43F9-B675-466020C4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A3F-B9A8-49B2-B730-80852B03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F2C-79E9-4A7F-8896-C02D257D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FCC-F290-444F-9FB0-8648D213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B4F-D36B-44AD-B0D5-0B1A67FD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82C-66F0-4CAA-95E8-62706FFE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48C-2319-4746-B0B5-DEBC329C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A28-214E-4638-BF53-CD91F024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633-2619-4F50-B7B1-CE7AE4AC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38B-5073-43AC-A35D-AFFF37C0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76DB-2DB3-4133-AB1E-CFF52EEA2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damentals of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3: Doing Arithme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Prefix and Postfix Incr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e Before or After Incr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 = 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b = a++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 = ++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a=%d, b=%d, c=%d\n"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, b, c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will se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a=3, b=1, c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Include and Define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er Pre-Process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iler never sees these 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#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ert contents of file into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#def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symbolic cons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Include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ert copy of file into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&lt;&gt; or local "" "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include "myhdr.h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Define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Substit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s usually upper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#define NUMENT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entry[NUMENT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lose expression in parenth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#define MAXENT (100+5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 = y * MAXEN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s code easier to 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C Def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#define NAMELEN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buf[BUFSIZ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fname[NAMELEN], lname[NAMELEN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Revised Program GetInfo.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Const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 Can define con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onst MAXENT =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like any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include files in V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modules and declare Public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Functions and Subrout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provides many functions and sub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 returns a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 = atoi(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routine doesn'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(bu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write your own functions and sub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Functions and Subrout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to perform common ta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called from various points in p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er can pass arguments to rou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s the amount of coding requ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s debugging eas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s a single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Functions and Subroutines in 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C there are only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broutines is a void function in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define a fun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urier New"/>
              </a:rPr>
              <a:t>return_type function_name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Courier New"/>
              </a:rPr>
              <a:t>args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 /* start of function 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.. sta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 /* end of function 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() is an int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laring C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have to be declared befor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ration is like first line of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urn_type function_name(arg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ce the semicolon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no return type, int is assum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ning message about main returning 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Arithme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thmetic Exp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+, -, *, /, % (Mod in V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um, 42, t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ment Stat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ns = num1 + num2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tr = ctr + 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Functions and Subrout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 Can define functions &amp; sub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unction Square(num as integer) as inte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quare = num * 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d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ub DisplayMsg(msg as Str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sgbox(ms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Get Integer from Us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ly we 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Enter number: 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um = atoi(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make this into a funct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um = get_int("Enter number: 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Get Int - First Ver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get_int(char *ms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har buf[BUFSIZ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msg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urn atoi(bu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C GetInt, Version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u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um = get_int("Enter a number: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bo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"Enter num ENTER to quit: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't do that with versio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er doesn't have access to bu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fix that with version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t Int - Version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version, the caller provides bu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get_int(char buf[],char *ms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msg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urn atoi(bu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ller can test for non-integer v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Using Get Int - Version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e can get number &amp; test for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um=get_int(buf,"Enter num or q: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buf[0]=='q')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t_int function will still return a 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non-numeric, value will be z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instead of typing 3 lines, we type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write get_float al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GetInt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test for Cancel or no 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OK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ero - normal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zero - error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input text is empty, er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ancel button pushed, er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ger Division &amp; Modu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ards remai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u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ainder after div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= 7 / 3; /* a is 2 *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 = 7 % 3; /* b is 1 *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= 7 \ 3 ‘ a is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 = 7 mod 3 ‘ b is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Program Arith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two number from u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sum, difference, product, quo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ter first number: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ter second number: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6 + 2 is 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6 - 2 is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6 * 2 is 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6 / 2 is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 Arit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es for two Input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-line output text 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, Subtract, Multiply, Divide, &amp; Modu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calculation on separate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able vertical scroll b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der of Opera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ary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ication, division, modu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ition, sub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parenth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x = 10 - 3 * -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- (3*-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- (-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signment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 = 1; b = 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 = b = 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sam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ment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ounter = counter + 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er isn't changed until after expression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Increment and Decr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ment variable by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tr++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ment variable by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left--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ment by th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 += 3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 -= 4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 *= 2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Prefix and Postfix Incr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fix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= ++b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fix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= b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valent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 = b +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= b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valent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= b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 = b +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1T01:14:24Z</dcterms:created>
  <dc:creator>Bill Pringle</dc:creator>
  <dc:description/>
  <dc:language>en-US</dc:language>
  <cp:lastModifiedBy>Bill Pringle</cp:lastModifiedBy>
  <dcterms:modified xsi:type="dcterms:W3CDTF">2000-09-04T22:28:18Z</dcterms:modified>
  <cp:revision>27</cp:revision>
  <dc:subject/>
  <dc:title>Include and Define Statements</dc:title>
</cp:coreProperties>
</file>