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FA75-EA39-41DE-948D-F2D47BF4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677C-8950-43B8-ADFF-BFD924C6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8B19-5615-408C-BA4C-6BF3A85E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934-943E-4E15-BB15-09EB2739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0086-7CC2-40F2-9425-3112D5DC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31C-1BFF-4CAA-B208-60958E91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5FD6-F090-4A90-948E-560BDE37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221F-D0F5-4BE6-92B4-6AC59E71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0A8-5B65-4F14-8912-3B7E77DF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7F2-776E-40DB-8E45-D91CB502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CE8-29FE-4462-BB33-F4E76D26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8739-7993-4E9D-BC44-4B85C5A1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0C8C-E028-4453-B9A9-7515160ACE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damentals of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4: Testing and Deci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sting VB Stat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expr1 t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expr2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tement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tement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men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d i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ining C If Stat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one statement will execu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f (cond1) stmt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lse if (cond2) stmt2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lse if (cond3) stmt3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lse stmt4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else is used, at least one will exec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braces for statement bl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ining VB If Stat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expr1 t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ment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seif expr2 t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ment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seif expr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ment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 i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rite C Program Comp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wo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re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to U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ter first number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ter second number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he number 6 is bigger than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bigger, smaller, or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rite VB Program Comp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 Boxes for two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mmand Button to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Output Text Box for Mess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gger, Smaller, or Eq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ute Sales Tax in 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 amount (floating poi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under $1, no t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over $1, then  6% t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ter Amount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.5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o T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ter Amount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1.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ax is .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a: display subtotal, tax, and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ute Sales Tax in V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 Box for Amou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mmand Button to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 Box For Sales T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under $1, no t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wise, 6% t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 Box for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rite C Program Cal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 two numbers from U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 Operation from U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Res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nter first number: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nter second number: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nter Operation: 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12 + 4 is 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Program Calculat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wo Text Boxes for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 Box for Op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mmand Button to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 Box for Ans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Button Pushed, perform calc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result in answer text 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aring Characters in 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gle Chars are like inte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(c == 'a'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king at characters inside st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f (buf[0] == '\0'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ue if user pressed ENTER (empty li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f (buf[0]=='y' || buf[0]=='Y'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ue if user answered 'y'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oolean Expres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 is true or fal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 uses int for Bool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ero is false, everything else is  tr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B supports Bool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s are True or Fa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sting Character Types in 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#include &lt;ctype.h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alpha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digit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space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print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cntrl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graph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punct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xdigit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ascii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upper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lower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lower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pper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sting Strings with V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Numeric(st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Null(st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Empty(st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case(st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case(st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aring Strings in 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#include &lt;string.h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ret = strcmp(str1, str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if eq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gative if str1 &lt; str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ve if str1 &gt; str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se sensitive comp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e insensi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icmp(str1, str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imes other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aring Strings in V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Variables compared direc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f str1 &lt; str2 t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sgbox str1 &amp;  “ less than “ &amp; str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nd i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rison case sen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Case Stat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ilar to chained if stat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ing for single values, not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switch(intex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ase 1: block1; 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ase 4: block2; 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efault: block3; 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learn more about this l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Case Stat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Select case intex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as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tatement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ase 2 to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tatement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ase e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tatement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nd sel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urier Ne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aring Numb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&lt;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x &gt;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 &lt;=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 &gt;= 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 ==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 !=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&lt;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&gt;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&lt;=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&gt;= 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=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&lt;&gt;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oolean Operat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(a &lt; b)&amp;&amp;(c &gt; 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(x &lt; y)||(x &gt; z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&amp;&amp; !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&lt; b and c &gt;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&lt; y or x &gt; 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and not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 Carefu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Numbers Satisf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(x &lt; 1) &amp;&amp; (x &gt; 1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(x &lt; 1) || (x &gt; 1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(x &lt; 10) || (x &gt; 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(x &lt; 10) &amp;&amp; (x &gt; 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If Stat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if (expression) stm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expression is true stmt is execu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if (expression) stmt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else stmt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expression is true stmt1 is execu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wise stmt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ound Stat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f (exp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one or more stateme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one or more stateme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urier New"/>
              </a:rPr>
              <a:t>Get in the habit of using br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If Stat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expr t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ment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ment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ment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ment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 i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sting C If Stat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if (exp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f (expr2) stmt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lse stmt2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else if (expr3) stmt3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1T01:39:09Z</dcterms:created>
  <dc:creator>Bill Pringle</dc:creator>
  <dc:description/>
  <dc:language>en-US</dc:language>
  <cp:lastModifiedBy>Bill Pringle</cp:lastModifiedBy>
  <dcterms:modified xsi:type="dcterms:W3CDTF">2000-09-04T22:32:55Z</dcterms:modified>
  <cp:revision>28</cp:revision>
  <dc:subject/>
  <dc:title>Fundamentals of Programming</dc:title>
</cp:coreProperties>
</file>