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1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ogic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trad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you assume that a=&gt;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you find a case where a is T &amp; b is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n a=&gt;b is a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ry a=&gt;b is then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you assume that x=&gt;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you find a case where x is F &amp; y is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t's f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up is down, then left is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ro to Predicate Calcul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types of quant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7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XP or AX.P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For all X, P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is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7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X.P or EX.P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here exists at least one X such that P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istential Assu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versal Assump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say any ex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if one does, the condition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Unicorns have silver ho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tr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ess you can find one with a gold ho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Using Predicate Calcul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x.(woman(x)=&gt;human(x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x is a woman, then x is a hu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x.(mother(x, y)=&gt;woman(x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x is a mother of y, then x is a hu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.(mother(mary,bob))=&gt;woman(ma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Mary is the mother of Bob;  Mary is a wo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ausal Fo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 form of logical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1 | b2 | ... | bn &lt;= a1 &amp; a2 &amp; ... &amp;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all the A's are true, at least one B is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propositions can be expressed this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ght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eft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ausal Form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kes(bob, trout) &lt;= likes(bob, fish) &amp; fish(tro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Bob likes fish, &amp; trout is fish; bob likes tr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(sam, al) | father(sam, mary) &lt;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ther(al, bob) &amp; mother(mary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amp; grandfather(sam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bob's mother &amp; father are al &amp; 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and sam is bob's grandf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then sam is al or mary's f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thods of Proving Theor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ement to prove (or dispro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duction o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existing 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 go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Contra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ssume goal is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solution or Law of In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ility to deduct facts from propo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 &lt;=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&lt;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&lt;=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esolutio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lder(mary, bob) &lt;= mother(mary, bo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Mothers are older than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ser(mary, bob) &lt;= older(mary, bo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Older people are wiser than young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ser(mary,bob) &lt;= mother(mary, bo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Mothers are wiser than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ly work with general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lder(x, y) &lt;= mother(x, 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tradictio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5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) older(mary, bob) &lt;= mother(mary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) wiser(mary, bob) &lt;= older(mary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Pro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c) wiser(mary,bob) &lt;= mother(mary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um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d) ~wiser(mary, bob) &lt;= mother(mary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e) since mother(mary,bob), older(mary,bob) [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f) Since older(mary,bob), wiser(mary,bob) [b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g) wiser(mary,bob) &amp; ~ wiser(mary,bob) [f &amp; d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roduction to Symbolic Log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o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Clausal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oving Theor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Overview of Logic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arative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e facts &amp; character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algorith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: s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scribe on the characteristics of sorte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(old,new)&lt;=permute(old,new) &amp; sorted(n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ed(list) &lt;= Ax.0&lt;j&lt;n+1, list[j]&lt;list(j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lo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Prolog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st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mbolic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ilar to LISP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g of Letters, Digits, and Undersc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gins with lower case l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racter String enclosed in qu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meric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 of Letters, Digits, and Under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gin with Uppercase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ant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variables bound to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st only until Goal comp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al is proving or disproving pro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resent atomic propo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or(parameter li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y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 Relationships Among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amete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Atoms, Variables, or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act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to construct hypoth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d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to infer additional 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(mar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le(bob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ther(mary, bob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nings un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ul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Term or Conj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operator is implied by com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(jane), child(jan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ecedent, Consequence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cestor(mary,bob) :- mother(mary,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variables to form genera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cestor(X,Y) :- mother(X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cestor(X,Y) :- father(X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Goal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ement to be pr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(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stem replies "yes" or "no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es if statement can be pro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if it can'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ight still be true, just not pro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junctive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ther(X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o is the mother of Bob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ference Process of Prolo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eries are calle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ou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st of sub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2 :- P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4 :-P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 :- 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ethods of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ward 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tom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gin with 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 Toward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ckward 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with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 Backwards to 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pos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gical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uld be true or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omic Pro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ains compound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und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gical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un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unction or relation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dered list of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ample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ume we kno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) father(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) man(X) :- father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al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c) man(bob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Forward Chaining Pro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ackward Chaining Pro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rward Chaining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d) man(X) :- father(X)  [b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e) father(bob)  [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f) man(bob) :- father(bob) [b w/ bob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g) man(bob)  [f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an(bob)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ckward Chaining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n(bob) [goa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d) man(bob) :- father(bob) [b w/ bob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her(bob) [d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her(bob) [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an(bob)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Backward Chain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le(X), parent(X, ja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there a known male parent of Ja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d all the instances where male(X)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each instance, test parent(X, ja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found, proof is 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imple Arithme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+(7, 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Evaluates to X +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is B / 17 + 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inds A to B / 17 +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not an assignment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 is X + 1. is ille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apple, plum,  grape, peach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X | Y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 is first element of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 is rest of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to LISP [ CAR | CDR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new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_list([banana, prune, mango]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are equival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apricot, peach, pear | []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apricot, peach | [pear]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apricot | [peach, pear]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end operation 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(first second resu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end([], List, List).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empty list + list -&gt;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end([Head | List1], List2, [Head | List3]) 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ppend(List1, List2, List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imes New Roman"/>
              </a:rPr>
              <a:t>(CONS (CAR FIRST) (APPEND (CDR FIRST) SECOND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blems with Prolo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remely in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ofs can take a long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al was to not need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ed to understand how Prolog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make execution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ursion can be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cause infinite lo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cestor(X, 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cestor(X, Y) :- ancestor(Z, Y), parent(X, Z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grammerless 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ll it ever happ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dn't work for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dn't work for Application Gen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b pages using Front P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 can create bad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as easy to write good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position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(jake)   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{jake} related to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ke(bob, steak)  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{bob, steak} related to 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(fred)  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{jake} and {fred} related to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oposition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implied meaning in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ke(bob, stea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uld be "Bob likes steak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 "Bob hates Steak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 "Bob ate a Steak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 "A Steak fell on Bob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 "Bob and a Steak are similar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der of parameters is signific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ke(bob, steak) different than like(steak, bo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atements vs Que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itions can be used two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proposition is stated as being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proposition becomes part of the knowledge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proposition is something to be 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xisting facts are used to prove or dispr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can't be proven true, it is considered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ound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or more proposition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r 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junction (And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r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junction (Or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r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quivalence (Equals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r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ication (Implies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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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r =&gt; and &lt;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=&gt; b (a implies 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imes New Roman"/>
              </a:rPr>
              <a:t>If a is  true, then b is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64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amples of Compound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&amp; b =&gt;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a and b are true, then c is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| ~b =&gt;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a is true or b is false, c is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a &amp; (b | c)) =&gt;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f a is true, and either b or c is true, then d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m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=&gt;b doesn't imply ~a=&gt;~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oday is Tuesday, then I want to eat lu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 can still want lunch on 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12</dc:title>
</cp:coreProperties>
</file>