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SE 428 - Lecture 10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Chapter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aising / Detecting Excep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ception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verity of 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e of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us fl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ever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recov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rminate t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ov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er state of task /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ume Exec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Language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cope of Exception Hand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Entire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Entire ro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Block of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Granularity of Exception Hand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All exce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List of  Exce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Specific 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cope of Exception Hand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tir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st handle all such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st be able to know location of 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st be able to res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st location to determine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cope of Exception Hand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milar to program wide, but eas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often deduce location from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ther resume or exit ro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ght have error exit for ro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r return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Scope of Exception Hand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tement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cellent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overy can be more prec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within Loop, can retry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able to handle  several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fferent recovery for each exception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ORTRAN Excep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89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READ(5, 1000, END=100, ERR=2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Read from device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Use format 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On End of File, go to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On I/O Error, go to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ORTRAN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ly I/O Exce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TO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mited recovery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L/I Excep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9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On cond GOTO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On cond [SNAP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Signal condition (co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PL/I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r could define exce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r could raise exce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r could suppress exce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mited recovery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terrupt Hand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Exceptions are asynchro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Not really un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But we usually don't know when (and/or whi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nterrupt Hand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nterrupt Proces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nterrupt Ma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a Excep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9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when cond =&gt;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raise 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pragma suppress(co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inuation at end of error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Ada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rovement over PL/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mited re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a design prevented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++ Excep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9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 catch (prm)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// handler for try b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atch(...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// default hand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throw 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4000"/>
              </a:lnSpc>
              <a:spcBef>
                <a:spcPts val="68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++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r could throw con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define class as an 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ception Handler could be passed a str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ilar to 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recover, how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Java Excep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89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void foo () throws excep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if (cond) throw new exc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while (cond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} catch(excep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4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 catch (excep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4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4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Java Eval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es of exce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row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handle or pass up to ca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ceptions can be cre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r can throw any type of 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ceptions must be handled or passe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ptional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finall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ecuted before 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BM Mainfra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S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struction Cou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ress of next instr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dition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struction 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rupt M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ld PS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 PS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ddress of Interrupt Hand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terrupt Hand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Interrupt Occ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heck Interrupt 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Save PSW in Old PSW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Load New PS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Interrupt Handler saves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Load Old PS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Interrupt Processor invok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terrupt Handl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 PSW disables similar interru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ave current status of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tic save area for interrupt hand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r buffer area  for multiple s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ord Information about Interru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ave it for later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store former state of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ad New PSW to resume exec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terrupt Handler (cont'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oid recursive interrupt han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able similar interru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use multiple s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able lower priority interru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igher priority may interrupt lower 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st take minimal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st completely restore former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nterrupt Process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lled when conven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treives information about interru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rforms necessary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/O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k task block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/O Com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k task ready if appropr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imer Interru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wap out current task for an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Exception Hand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ynchronous Handling of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nges state of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ght terminate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ght recover &amp; resu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ght start additional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itiate additional 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Raising Excep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me languages allow appliction to ra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itiate additional 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ually considerable over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r usually raises minor exce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use 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use cli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eyboard 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CSE 428 - Lecture 10</dc:title>
</cp:coreProperties>
</file>