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SE 428 Lecture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rogramming Languages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Survey of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NOB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signed for Text Mani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ttern Matc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ssociative Arr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fluenced AWK, which influenced Per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IMUL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ginning of Object Oriented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rt Of, no data abs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-Rou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operative Multi-tasking in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Ema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ll Screen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ultiple virtual wind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SP-Like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ach keystroke is a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 input-command m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n write your own comma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lete development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lg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uctured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reated by/for Academ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 I/O 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ardware varied grea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rd / Record orien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eyboard orien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voided the hard cho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igh Level Assembler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ructured Programming (but predates i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it and Byte Mani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od for Systems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ix &amp; Linux almost entirely done in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y Language Compilers were done in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od for Utilities, General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od for GUIs al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c, X-Windows, &amp; Netscape/Mozilla/Phoe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 API for Windows also (though mostly C++ no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olo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ogic Based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fine Rules and Relationsh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F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k question (as an unproven statem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anguage attempts to prove or dispr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lse doesn't always mean fa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ust not pro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ost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ge Description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reate Program to print p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aracters are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also write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gram executed by the Pri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ck based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stfix Synt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inch { 72 mul } d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 inch 1 inch mov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sign by a Huge Commit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"perfect"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ttempt to force good coding pract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o Big, Too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ilers Were Slow in C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o S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0 times slower than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People Love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++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bject Oriented version of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jective C and C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erset of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lower than Native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ut maybe not n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ynamic vs Static op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V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sy Visual Programming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be Learned by Begin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bject Oriented Flav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t quite there, however, until .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ten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rd Party Controls, Active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ngle Programming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l / Microso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ood enough performance if intera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ow Level Langua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chin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xed Lo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sembler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djust to mo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s names instead of addr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roduced mac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e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ke the English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rived from many langu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ed to know where it came f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bably the least orthogonal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olates many programming guide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bably the richest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st of breed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d widely for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riginal CGI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Jav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signed for Appli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n Used for Networ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pular for Web 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latform Indepen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rite Once, Run Anyw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S Now required to ship latest 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HTML/XML/XHT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tensions of SG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mat, not Content (sort o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inly 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matting Derived from Other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ext Based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lt;h1&gt;&lt;name&gt;Bill Pringle&lt;/name&gt;&lt;/h1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XSL, XSLT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ramming Language for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rforms data transform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be used with non-XML data as w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ill in its infa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as great potential, but so did 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ext based data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od for small data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od for data exchanges between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FORTR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rtran Trans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cientific 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mited Text Hand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 Dynamic Data Allo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IS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st Processing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ram &amp; Data all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lf Modify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rtificial Intellig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B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mon Business Oriented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usiness 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ven a Manager Can Read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cord, Card, &amp; Printer Orien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mited Math Cap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fluenced Instruction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ditMark Instr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RP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port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ystem 34/3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tinual Lo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 of Flags to trigger ev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Bas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eaching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tera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terpre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mple Synt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oosely Typ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t influenced by hard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L/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sign by Committ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tremely in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ypos might be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defined Accepted Standar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 100 I=1, 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ant something different in FORT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P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Programming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valuates Right to L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a = 3-7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n a is 4 (not negative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alth of oper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ynamic data typing (and re-typ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ata type determined by current 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lements can change types during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Pringle</dc:creator>
  <dc:description/>
  <dc:language>en-US</dc:language>
  <cp:lastModifiedBy>Bill Pringle</cp:lastModifiedBy>
  <cp:revision>0</cp:revision>
  <dc:subject/>
  <dc:title>Programming Languages Concepts</dc:title>
</cp:coreProperties>
</file>