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- Lecture 1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Functional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tructured vs Funct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8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F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it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unctional via Structur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al Programming using Structur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ch of it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typing is a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PL usually restricts what functions can re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PL can return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't do Structured Programming in FP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it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variables, assignment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st Processing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wo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ctual 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umerical 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llection of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toms or other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xamples of Li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A B C 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 of four 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A (B C) D (E (F G) H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 of atoms and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t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gle Linked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Link Cont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R - pointer to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DR - pointer to next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CDR is N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d of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P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function arg1 arg2 ... arg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+ 5 7) yields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mbda N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fname (LAMBDA(arg1 arg2 ... argn) expr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ube (LAMBDA(x) x * x * x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named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-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P Interpre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AL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eval exp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aluates the expression exp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as used as an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eval (program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unctional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mple Language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ed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c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on LI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QU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D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Q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U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Functions: QUO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QU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the argument unmod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QUOTE 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QUOTE (A B C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(A B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'(A B 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ort hand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unctional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erative OOP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, VB, Java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al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hmetical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n-Impe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Functions: C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first element from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AR '(A B C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AR '((A B) C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(A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AR '(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an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Functions:CD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D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the remainder of the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DR '(A B C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(B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DR '((A B) C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(C 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DR (CAR '((A B) C D)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(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Functions:C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struct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ONS 'A '(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ONS 'A '(B C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(A B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ONS '() '(A B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(A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Functions:EQ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Q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ares arg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both atoms and equal, returns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se returns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EQ? 'A '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EQ? 'A '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T if A &amp; B are equal; else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Functions:LIS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sts if argument is a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LIST? '(A B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LIST? '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LIST? '(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Functions:NUL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U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sts for empty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NULL? '(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NULL? '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NULL '(()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rimitive Functions:CO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ditional (IF-THEN-EL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O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ool trueval falsev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ool trueval falseval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COND (&lt; 'A 'B) A 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s the smaller of A and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arch List for 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atom atm a member of list l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(DEFINE (member atm 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COND             </a:t>
            </a: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(NULL? lis) '()) </a:t>
            </a: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if list empty,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if atom is at head of list, then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(EQ? atm (CAR lis)) #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otherwise, process rest of the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ELSE (member atm (CDR lis)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mpare Two Li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(DEFINE (equalsimp lis1 lis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(COND </a:t>
            </a:r>
            <a:r>
              <a:rPr b="0" lang="en-GB" sz="2400" spc="-1" strike="noStrike">
                <a:solidFill>
                  <a:srgbClr val="ff9900"/>
                </a:solidFill>
                <a:latin typeface="Courier New"/>
              </a:rPr>
              <a:t>if 1st null, T if 2nd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(NULL? lis1) (NULL? lis2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(NULL? lis2) '()) </a:t>
            </a: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if 2nd empty,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if heads are equal, do rest of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(EQ? (CAR lis1) (CAR lis2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equalsimp (CDR lis1) (CDR lis2)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ELSE '())  </a:t>
            </a: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if not equal, return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ist of Common Ato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(DEFINE (both lis1 lis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(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(NULL? lis1) '()) </a:t>
            </a: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if 1st empty qu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if head of lis1 in lis2, add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(member (CAR lis1) lis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CONS (CAR lis1) (both (CDR lis1) lis2)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otherwise process rest of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ELSE (both (CDR lis1) lis2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Mathmetical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pping of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rom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to 1 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st be an inve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y to 1 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inve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Total Elements in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(DEFINE (ADDER l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(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(NULL? lis) 0)  </a:t>
            </a: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if lis empty, ret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EL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urier New"/>
              </a:rPr>
              <a:t>else add 1st elem plus rest of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+ (CAR lis) (adder (CDR lis))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unctional Control 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ck of Structured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itional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ursive Function C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unctional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be of a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be(x) := x * x *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mbda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amda(x) x * x *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Lamda(x) x * x * x)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ult is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unctional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functions as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ields function as its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unctional Compos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y functions to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h := f °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f(x) := x +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g(x) := 3*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h(x) := f(g(x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h(x) := (3 * x) +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onstr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list of functions as arg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y each function to the arg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g(x) := x *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h(x) := 2 *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i(x) := x 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[g, h, i](4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yields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(16, 8,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pply to 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one function and list of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ies function to list of ar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(x) := x *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h, (2, 3, 4) yields (4, 9, 1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CSE 428 - Lecture 11</dc:title>
</cp:coreProperties>
</file>