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788"/>
              </a:spcBef>
              <a:buClr>
                <a:srgbClr val="ffffff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88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88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SE 428 - Lecture 6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Control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Chapter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GOTO Programm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gram divided into blo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se GOTO to go to another bl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block1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stmt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GOTO block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block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stmt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block3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GOTO Programm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plement Loo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block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stm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BRANCH EQ block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stm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GOTO bloc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block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GOTO Programm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cess menu op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COMPARE option to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BRANCH EQ block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COMPARE option to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BRANCH EQ block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COMPARE option to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BRANCH EQ block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BRANCH ALWAYS block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GOTO Programm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atch areas in object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vise executable code in bin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nd insertion poi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w/ branch to patch ar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roduce replaced instr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dditional instru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ranch back to original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Still used by debugge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GOTO Programm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lf Modifying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BC NEVER sk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initialization code (do on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change to BC ALWAYS sk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ski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GOTO Programm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claiming Mem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star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initialization code (do only on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en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n use start thru end for data sto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ootstrap loa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Branch Tab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sed for multiple (many) targe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pending on some va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able of "N" Addre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alue from 1 to N (or Zero to N-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vert value to offset from start of t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ranch to location at that add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Branch Table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OADADDR R1, brtable # start of 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OAD R2, option # option nu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UL R2,=4  # convert to 32 bit wo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DDREG R1, R2 # addr of branch en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RANCHREG R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In Line Branch Tab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OAD R1, o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L R1,=4 # convert to  4 byte wo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RANCH *(R1) # IC addr + R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RANCH ALWAYS block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RANCH ALWAYS block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RANCH ALWAYS block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RANCH ALWAYS block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Problems with GOT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ltiple ways to get to one p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fferent states, depending on his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ot always sure how you get somep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uld have come from many pl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asy to make bad assump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You think everyone has some variable 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asy to end up with unused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body goes there any m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ontrol State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PS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Early Programming Sty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Structures Program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tructured Programm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OTO-l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andard programming constru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mmon to many langu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asy to port algorithms to other langu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tructured Programm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IF-THEN-EL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CASE / SEL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LOO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99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while, do-while, f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IF - Conditional Branch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5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(cond) th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tm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tm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l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tm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tmt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nd i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ex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RANCH COND el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tm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tm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OTO endi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ls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tm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tmt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ndi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ex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IF State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ditional GO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asic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A &lt; B THEN 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ORTR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(A) 100, 200, 3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(A.EQ.B) GOTO 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Isolating the IF Condition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as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A &lt; B THEN X = 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ORTR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(A.LT.B) X = 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(a &lt; b) x = y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en does the conditional en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en do you know tha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Nesting IF State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0">
              <a:lnSpc>
                <a:spcPct val="89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if (cond1) th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stm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if  (cond2) t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stmt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stm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en is stmt3 execut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hained If State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(a == 1) stmt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lse if (a == 2) stmt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lse if (a == 3) stmt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lse stmt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t most one statement execu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t least one if end w/ el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elect / Case Stat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ORTR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GOTO (100,200,300,400), 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as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ON I, 100, 200, 300, 4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plemented using Branch T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elect / Case Stat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2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9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switch(opt)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case 1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a = b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break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case 2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a = c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break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9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BR tbl+option*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tbl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R case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R case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ase1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A=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GOTO e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ase 2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A = 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GOTO e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en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Loop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Range / Termination Crite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99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Conditional Loo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99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Counter Loo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99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Collection Loo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Break &amp; Contin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Jumps into Lo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Modify Loop Coun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Program Status Wor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Instruction Coun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99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Next instruction to execu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Instruction Length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99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Length of last instr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Condition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99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Result of last applicable instr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Interrupt Ma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99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What interrupts are allow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onditional Loop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o Wh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ile 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o Unt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ntil 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finite Lo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se break to ex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seful if termination is from middle of lo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ounter Loo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ORTR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DO 100 I=1,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B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ERFORM PROC 10 TI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ERFORM PR VARYING I FROM 1 TO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as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FOR I=1 to 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for (i=0; i&lt;10; i+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4000"/>
              </a:lnSpc>
              <a:spcBef>
                <a:spcPts val="788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ollection Loop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IS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(DOLIST CMD LIS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nix sh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for file in *.t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WK for is overloa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for x in co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-Shell, Per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foreach x in co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Instruction Coun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ddress of *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nex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* instr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ot address of *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curren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* instr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ranch Instruction puts addr in 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LC gives length of instr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tract from IC to get addr curr instr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atch out for branch instru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ondition Co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C remembers previous resul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sed with Branch Instr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mplements IF-THEN-EL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Early Programming Sty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GO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Self Modifying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99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Change Condition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99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Reuse Initialize Mem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onditional Branch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se Condition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LOAD 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ADD 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BRANCH POS SOMEPL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dition Code remembers previous resul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8 - Equal, Ze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4 Greater Than, Posi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2 Less Than, Neg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1 Error, Overf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onditional Branch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1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ome instruction affects Condition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est Condition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ranch on condition to some lo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therwise, continue exec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tinues at next instr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struction flows may merge l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may diverge complete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GOTO Stat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dit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ways (Unconditiona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ever (No-O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ill Pringle</dc:creator>
  <dc:description/>
  <dc:language>en-US</dc:language>
  <cp:lastModifiedBy>Bill Pringle</cp:lastModifiedBy>
  <cp:revision>0</cp:revision>
  <dc:subject/>
  <dc:title>CSE 428 - Lecture 6</dc:title>
</cp:coreProperties>
</file>