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SE 428 - Lecture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Abstract Data Types &amp; 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Chapters 11-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Transparen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9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4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float x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4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float 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4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} Poi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4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oint *create_point(float x, float y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Opaque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89000"/>
              </a:lnSpc>
              <a:spcBef>
                <a:spcPts val="5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typedef struct drawobj DrawObj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rawObj create_drawobj(voi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int setPoint(DrawObj, Point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oint getPoint(DrawObj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Translucen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ublic header fi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typedef struct drawarea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rawObj *obj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} DrawAre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rivate header fi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typedef struct drawarea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rawObj *obj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int typ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} DrawAre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mplem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ctual A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blic and priva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blic and private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thods can validate requ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lient Pro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s ADT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know how to use the A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ut not necessarily the internal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ven if details are known, be care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n't use knowledge unless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T 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stru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led when new instant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itializes interna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stru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led when an object to be destroy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eans up loose 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leases any allocated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hould prevent stale references if pos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ght be called automatica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T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stack = create_stack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push(stack, 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ent = pop(stac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isEmpty(stac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delete_stack(stac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ent = top(stac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T Example (cont'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89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stack = create_stack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reates a new Stack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a hand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ually dynamic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andle is pointer to new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n be a different address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be implemented with static arr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andle is index into private arr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T Example (cont'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ynamic data version constru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void *create_stack(voi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struct stack *re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ret=malloc(sizeof(struct stack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return re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T Example (cont'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tic data version constru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int create_stack(void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int re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if (num_stacks &gt;= max_stack) return -1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ret = next_stack(); /*find free*/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return re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Global Data El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data can be seen by every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IC was originally this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use for many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FOR I=1 to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4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GOSUB 1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NEXT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1000 FOR I=1 to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4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INT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Object Oriented AD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stack = new Stack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stack.push(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ent = stack.pop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stack.isEmpty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ent = stack.top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delete st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T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m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ransparent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capsulation, but not data hi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ranslucent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declare private &amp; public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T Support (cont'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ranslucent 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use new and delete to manage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ranslucent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ually opaque, th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delete, uses garbage col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ference variables instead of poin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Object Oriented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More than just A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Dynamic creation of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Inheri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Polymorph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Dynamic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heri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ierarchy of Data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clare sub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ild types extension of parent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herit data &amp; methods from 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n override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n define additiona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n invoke parent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n't eliminate data or functions of 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heritance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ct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qu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square is a rect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cept width and height must be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ingle and Multiple Inheri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ngle Inheri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ild class derived from one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ltiple Inheri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rived from more than one met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sted Inheri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tains different class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(e.g. dialog contains buttons, text area, label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herits from other class via member of its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mplements Interface (Jav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ltiple inheritance difficult to impl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f duplicate/conflicting  method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method takes precede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ava defines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 of methods that are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ass can implement one or more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t really inheri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olymorphis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ider Java object metho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obj.toString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verts object to a string re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for each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Integer.toString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Float.toString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Character.toString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FooBar.toString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olymorphis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ild class can override parent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havior similar, but custom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toString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methods can be declared vir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lcared but not defined by 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thod must be defined by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Encaps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eate separat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Data visible only within mo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cal to mod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 static global 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ames can duplicate across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data visible only within rou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cal to rout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ynamic Bin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s Polymorph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termines what routine to c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t done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arly vs late bi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witch sta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s to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OOP &amp; Messa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rect procedure calls not m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ssages sent to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questing a method be execu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rguments may be pas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ject performs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y validate arguments &amp; reject requ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ssage sent to ca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tains object containing result of requ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anguage Support for 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s everything an objec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e primitive data types suppor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ger, flo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st OOP Languages support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tive &amp; User Defined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re they treated the sam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child not inherit subset from par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ually not, everything inher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mplementation of 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orage of data e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ow to implement public or priv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ow to enforce privat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mon data for all members of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currency issues (talk about la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thods fairly e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methods have external entry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vate methods internal to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able of pointers to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malltal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consider it the only pure 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lower than imperative langu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ss effic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0 times slower than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verhead of all mess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ynamic Binding can cause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nresolved references detected at run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++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heritance more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herited functions &amp;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clare other classes as frie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n access internal elements direc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tic type che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inds earlier than smallt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irly 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lightly slower than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Jav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milar to C++ but 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events parentless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ference objects instead of poin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arbage collection instead of explicit dele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ss complex inheri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 of Interface instead of multile inheri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a 83 wasn't object orien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tic bi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polymorphism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a 95 added these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tructors &amp; Destructors not implic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Data Hi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events clients from seeing internal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sible to internal routi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 languages allow nested rout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ta visibility /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lobal to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lobal to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cal to rout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cal to internal (nested) rout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bstra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crasti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shing details further down when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ke a Newspaper arti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Types of Abstra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cess Abs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ata Abs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bstract Data Ty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ata type is an 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as associated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as associated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rst Class A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dividual objects can be instanti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't use global 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't use static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T Compon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Client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c methods and possibly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outsiders can and can't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 details available to cl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rans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ll details available to cl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ransluc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public, some priv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CSE 428 - Lecture 8</dc:title>
</cp:coreProperties>
</file>